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477-65E9-482B-9E6B-828A8BC5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525-2F8B-4229-84F3-55F44541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994-63F5-4CE3-857A-F3C359BB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2FD-0C5E-49A2-BD7A-5C40DA3F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E73-768B-4C26-99CE-D5DFAB21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302-7934-4123-AC28-0D23D242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5A3-CD51-4E47-87F4-F0942E13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53E-EF52-48AC-82AC-3EEED9F6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4C5-BDB5-44D9-B987-FCF8E78C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B54-B1F4-466A-BA81-E75626EC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A61-C953-4769-9824-1F548C46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C40-5924-41A7-94C7-1E3EF527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775E-E1D3-4149-8F02-8AF8C58A1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58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kton Pr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1600200"/>
            <a:ext cx="85345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kton Pr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Fr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kton Pro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When he starts off the beginning of the speech with a story of a young boy and in the end of the speech he finishes with claiming that the young boy was him, and that they walk together side by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kton Pr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kton Pro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Ellie uses many question and answer type responses in his speech. For example “What is indifference?” “..the word means </a:t>
            </a:r>
            <a:r>
              <a:rPr b="0" lang="en-US" sz="2000" spc="-1" strike="noStrike">
                <a:solidFill>
                  <a:srgbClr val="ff0000"/>
                </a:solidFill>
                <a:latin typeface="Tekton Pro"/>
              </a:rPr>
              <a:t>“no difference”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kton Pr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kton Pro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71800" y="228600"/>
            <a:ext cx="2666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ll Paul"/>
              </a:rPr>
              <a:t>Trope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ll Paul"/>
              <a:ea typeface="Tall Pa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2:23:38Z</dcterms:created>
  <dc:creator>Southeast Local Schools</dc:creator>
  <dc:description/>
  <dc:language>en-US</dc:language>
  <cp:lastModifiedBy>HP Authorized Customer</cp:lastModifiedBy>
  <dcterms:modified xsi:type="dcterms:W3CDTF">2011-03-31T01:34:36Z</dcterms:modified>
  <cp:revision>4</cp:revision>
  <dc:subject/>
  <dc:title>PowerPoint Presentation</dc:title>
</cp:coreProperties>
</file>